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1DFB-DC44-48AD-935C-D9D09C96E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2A99-DA82-40C0-A4A7-46914F17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7429-4F1B-4C16-B19E-36F30B25A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3231-965C-42DB-8CCD-9041E09A5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87DF-8E31-45F0-8D1D-AA41DAE6A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B1F4-54DD-4816-B95B-3B8BA306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8735-6078-44CB-AAA4-7A0A682E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1A79-83E7-4B01-BF58-69AFA1B2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21B1-951E-4336-A77D-EF286F33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2B90-86CF-49DA-951B-A15D4008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7BDD-4B8B-4BBF-91D2-10879980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5CED-D2B5-4A11-98DB-A69FF44D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F054-CA0D-4844-A6F4-C416CE6D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438F-CDAE-48A1-8056-CA182607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94D2-D6F3-4C37-8C53-D6449BF0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D8F2-3A62-45A8-95AF-0376C74E1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6B64-4F9C-41A8-B88B-FE91A9905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3834-1BFE-4DFD-8BD2-3048E875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D3B5-B5CF-41BB-B665-588298ED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4DE3-ADB0-47E6-A41B-81AEAD19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CEC4-CD28-4BC2-99C8-DD11F475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3616-D34A-4F7E-8D56-DB07375F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13A7-D7E7-4DE1-82B2-2B30CFB3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DA97-8A1C-4E57-8001-E9F4906B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8607-FA0D-4D0A-B321-6D2940E1D9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1BB6-1988-49EC-908D-8DE8D89258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hyperlink" Target="http://www.google.com/url?sa=i&amp;rct=j&amp;q=&amp;esrc=s&amp;frm=1&amp;source=images&amp;cd=&amp;cad=rja&amp;docid=bFGUohhyFbn0OM&amp;tbnid=iovEh239cI1SfM:&amp;ved=0CAUQjRw&amp;url=http%3A%2F%2Fwww.bhs.umn.edu%2Falcohol-drugs%2Fstandard-drink.htm&amp;ei=ARmAUbeZKqiq2wWP1IDQDQ&amp;bvm=bv.45645796,d.b2I&amp;psig=AFQjCNH1PXVztMEh96YjPinturLFohe9EQ&amp;ust=1367435843166200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hyperlink" Target="http://www.google.com/url?sa=i&amp;rct=j&amp;q=&amp;esrc=s&amp;frm=1&amp;source=images&amp;cd=&amp;cad=rja&amp;docid=V3gbHClCFkByZM&amp;tbnid=vxSX48iF7DYNRM:&amp;ved=0CAUQjRw&amp;url=http%3A%2F%2Fwww.celebrities-with-diseases.com%2Fobesity-fat%2Fun-summit-targets-obesity-alcohol-and-smoking-19020.html&amp;ei=bRiAUZVViOrZBbKhgagB&amp;bvm=bv.45645796,d.b2I&amp;psig=AFQjCNESaXhDlx5ttYru-mRL96c5nPOz8w&amp;ust=1367435733872444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1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900720" y="17524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u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6200" y="17524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d C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4600" y="175248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bac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41800" y="1752480"/>
            <a:ext cx="13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al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Dru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066680" y="1752480"/>
            <a:ext cx="721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three colorless, odorless drugs –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HB, Rohypnol (also called Roofies) and Ketamine (also called Special K) are used to commit this type of crime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Dru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89240" y="2133720"/>
            <a:ext cx="445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ape or sexual assaul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Alcoho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986120" y="1828800"/>
            <a:ext cx="548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legal age to buy alcoho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Alcoho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974320" y="2209680"/>
            <a:ext cx="261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1 years ol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Alcoho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752480" y="228600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cohol is a depressant, which means it does this to your hear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Alcoho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209680" y="198108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lows down your heart or makes it beat slow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Alcoho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752480" y="1752480"/>
            <a:ext cx="61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sides being alcoholic beverages, a 12 oz. can of beer and a 1 ½ oz. shot of whiskey have this in comm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Alcoho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300680" y="1905120"/>
            <a:ext cx="699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tain the same amount of alcoho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57400" y="3505320"/>
            <a:ext cx="534348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Alcoho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523880" y="1905120"/>
            <a:ext cx="6324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two people (who are 21 years of age or older) drink the same amount of alcohol, name two reasons why the alcohol could affect them differently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Alcoho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600200" y="1905120"/>
            <a:ext cx="6149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odyweight, gender, family history, metabolism, how fast they drink, tolerance, or the amount of food in the stomach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Dru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752480" y="2514600"/>
            <a:ext cx="593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THC in this drug changes how the brain works and makes it harder to lear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Alcoho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143000" y="1981080"/>
            <a:ext cx="720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term used to describe when someone has 5 or more alcoholic drinks on right after the other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Alcoho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822400" y="1828800"/>
            <a:ext cx="313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inge drinking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Wild Car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600200" y="1905120"/>
            <a:ext cx="646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you are under the age of 21, this is the amount of alcohol allowed in your blood in order to legally drive a car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Wild Car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278880" y="2133720"/>
            <a:ext cx="204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Zero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Wild Car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905120" y="1981080"/>
            <a:ext cx="58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medical reason that narcotics (like Vicodin, Oxycontin, or Hydrocodone) are prescribed to patient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Wild Car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666880" y="1828800"/>
            <a:ext cx="426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 pain management or pain relief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Wild Car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143000" y="190512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t including car crashes and unintentional accidents, name one other major cause of death for youth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Wild Car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366280" y="1752480"/>
            <a:ext cx="406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icide or homicid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Wild Car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600200" y="1981080"/>
            <a:ext cx="66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legal age to appear in an alcohol commercia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Wild Car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050640" y="1905120"/>
            <a:ext cx="261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5 years ol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Dru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355560" y="1981080"/>
            <a:ext cx="226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rijuan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Wild Car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447920" y="1981080"/>
            <a:ext cx="68356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me the </a:t>
            </a: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number on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reason given by youth for why they choose not to use alcohol or other drug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Wild Car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209680" y="1828800"/>
            <a:ext cx="472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t wanting to upset or disappoint their parent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Tobacc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143000" y="1981080"/>
            <a:ext cx="730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 every 8 smokers that tobacco kills, one non-smoker will also die because of this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Tobacc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745720" y="1905120"/>
            <a:ext cx="407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cond-hand smok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Tobacc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757880" y="2133720"/>
            <a:ext cx="588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legal age to buy cigarett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Tobacc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974320" y="2057400"/>
            <a:ext cx="261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8 years ol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Tobacc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981080" y="2438280"/>
            <a:ext cx="585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me 2 life-threatening diseases smoking can lead t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Tobacc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1371600" y="1981080"/>
            <a:ext cx="682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art disease, stroke, emphysema, bronchitis, many types of cancer,  and high blood pressur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Tobacc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371600" y="1905120"/>
            <a:ext cx="61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AILY DOU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ingredient in cigarettes that turns a smoker’s teeth yellow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Tobacc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355200" y="2133720"/>
            <a:ext cx="204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a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Dru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666880" y="2286000"/>
            <a:ext cx="390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two drugs that kill the most people every ye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Tobacc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371600" y="1828800"/>
            <a:ext cx="6645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number of people in the USA die each year from tobacco-related caus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Tobacc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507480" y="1981080"/>
            <a:ext cx="204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40,000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Inhala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295280" y="213372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me 3 household products that are dangerous to inhal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Inhala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600200" y="1828800"/>
            <a:ext cx="7140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lue, nail polish remover, air freshener, markers, cleaning products, gasoline, spray paint, laughing gas, lighter fluid, etc.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228600" y="2133720"/>
            <a:ext cx="1230480" cy="19810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1828800" y="48006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5"/>
          <a:stretch/>
        </p:blipFill>
        <p:spPr>
          <a:xfrm>
            <a:off x="7848720" y="1828800"/>
            <a:ext cx="911160" cy="2852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6"/>
          <a:stretch/>
        </p:blipFill>
        <p:spPr>
          <a:xfrm>
            <a:off x="3352680" y="473400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7"/>
          <a:stretch/>
        </p:blipFill>
        <p:spPr>
          <a:xfrm>
            <a:off x="5410080" y="4724280"/>
            <a:ext cx="271008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Inhala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676520" y="1905120"/>
            <a:ext cx="668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me two reasons children may try inhalants for the first ti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Inhala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676520" y="1828800"/>
            <a:ext cx="6454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er pressure, boredom, curiosity, rebellion, they are easy to get, or they believe that household products aren’t dangerous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Inhala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143000" y="1981080"/>
            <a:ext cx="728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fter entering the lungs, inhalants go straight to this organ in the bod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Inhala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508200" y="1905120"/>
            <a:ext cx="214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brai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3048120" y="3352680"/>
            <a:ext cx="3352680" cy="25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Inhala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600200" y="2133720"/>
            <a:ext cx="65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term used to describe people who abuse inhalan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Inhala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2669040" y="2057400"/>
            <a:ext cx="373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niffers or huffer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Dru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670480" y="1905120"/>
            <a:ext cx="416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cohol and tobacco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3429000"/>
            <a:ext cx="358128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Inhala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676520" y="1905120"/>
            <a:ext cx="640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haling this product kills the most abusers every ye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Inhala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355200" y="1981080"/>
            <a:ext cx="204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solin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1676520" y="3657600"/>
            <a:ext cx="3390840" cy="22478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5029200" y="365760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76520" y="1981080"/>
            <a:ext cx="630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re teenagers die from the use of this drug than from the use of all other drugs combined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76720" y="1752480"/>
            <a:ext cx="246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coho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3276720" y="3276720"/>
            <a:ext cx="256212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Dru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14400" y="2057400"/>
            <a:ext cx="758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drug commonly found at raves and dance clubs that can cause permanent brain damage after only one use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Dru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820960" y="1905120"/>
            <a:ext cx="386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stasy or MDM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Dru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914400" y="1981080"/>
            <a:ext cx="720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re teens enter drug treatment every year for this drug than for all other illegal drugs combined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Dru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279600" y="2209680"/>
            <a:ext cx="226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rijuan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tech</cp:lastModifiedBy>
  <dcterms:modified xsi:type="dcterms:W3CDTF">2013-04-30T19:40:25Z</dcterms:modified>
  <cp:revision>21</cp:revision>
  <dc:subject/>
  <dc:title>Jeopardy</dc:title>
</cp:coreProperties>
</file>